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AA90-25E1-41A1-A045-76438887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2A48-697F-47A4-83E8-DB8FAE9A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A870-A303-4B5C-913E-82A65DE0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34B-2C0D-4BC4-A06E-B573CCE3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D3EF-F83F-4405-A5AC-05D1A732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FD9C-3505-4663-A6FC-474B04B9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5F92-51FE-4F7D-97F7-90282258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9372-605E-4342-86B8-32684818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149D-5B57-4FD0-BB71-1F472E28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99840" y="214200"/>
            <a:ext cx="73436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79AD-9DCE-475B-8A75-FBF367BD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0A93-061A-4BC7-8851-EE3098E5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4B0B-2A69-4B8E-A4D1-FC3504B6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FFE2-4F14-4063-820A-D373D0E0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2542-621F-423F-B7BA-A91A108B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0CB7-E44C-4AEA-82FD-D6ED4199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D887-336A-4163-BE88-270A0201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0914-BF20-4265-B9C8-480B6335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B24-A4A0-4D12-9538-5FC2C593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F305-BC12-4592-AFDD-47CEA2E5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15F-64C0-4768-BB3A-A528E7AB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599840" y="214200"/>
            <a:ext cx="73436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1D5-A936-4DC2-939A-A71638C5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1434-BCD0-4FBD-A468-852B0F4F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0615-F5D4-4F23-914B-D5232323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74BB-EB03-4763-96FA-825EF38F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6033-0551-4380-843B-7D9E4686D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371600" cy="127332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8"/>
          <p:cNvGrpSpPr/>
          <p:nvPr/>
        </p:nvGrpSpPr>
        <p:grpSpPr>
          <a:xfrm>
            <a:off x="457200" y="1812600"/>
            <a:ext cx="8511840" cy="91800"/>
            <a:chOff x="457200" y="1812600"/>
            <a:chExt cx="8511840" cy="91800"/>
          </a:xfrm>
        </p:grpSpPr>
        <p:sp>
          <p:nvSpPr>
            <p:cNvPr id="7" name="Rectangle 9"/>
            <p:cNvSpPr/>
            <p:nvPr/>
          </p:nvSpPr>
          <p:spPr>
            <a:xfrm flipV="1">
              <a:off x="457200" y="181224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>
              <a:off x="2198520" y="1812240"/>
              <a:ext cx="1741320" cy="918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>
              <a:off x="3875040" y="1812240"/>
              <a:ext cx="1741320" cy="918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>
              <a:off x="5551200" y="1812240"/>
              <a:ext cx="1741680" cy="91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>
              <a:off x="7227720" y="181224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457200" y="1828440"/>
            <a:ext cx="8511840" cy="91800"/>
            <a:chOff x="457200" y="1828440"/>
            <a:chExt cx="8511840" cy="91800"/>
          </a:xfrm>
        </p:grpSpPr>
        <p:sp>
          <p:nvSpPr>
            <p:cNvPr id="13" name="Rectangle 15"/>
            <p:cNvSpPr/>
            <p:nvPr/>
          </p:nvSpPr>
          <p:spPr>
            <a:xfrm flipV="1">
              <a:off x="457200" y="182808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>
              <a:off x="2198520" y="1828080"/>
              <a:ext cx="1741320" cy="918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>
              <a:off x="3875040" y="1828080"/>
              <a:ext cx="1741320" cy="918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>
              <a:off x="5551200" y="1828080"/>
              <a:ext cx="1741680" cy="91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flipV="1">
              <a:off x="7227720" y="182808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1981080" cy="183816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8"/>
          <p:cNvGrpSpPr/>
          <p:nvPr/>
        </p:nvGrpSpPr>
        <p:grpSpPr>
          <a:xfrm>
            <a:off x="316080" y="3260520"/>
            <a:ext cx="8511840" cy="91800"/>
            <a:chOff x="316080" y="3260520"/>
            <a:chExt cx="8511840" cy="91800"/>
          </a:xfrm>
        </p:grpSpPr>
        <p:sp>
          <p:nvSpPr>
            <p:cNvPr id="56" name="Rectangle 9"/>
            <p:cNvSpPr/>
            <p:nvPr/>
          </p:nvSpPr>
          <p:spPr>
            <a:xfrm flipV="1">
              <a:off x="316080" y="326016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2057400" y="3260160"/>
              <a:ext cx="1741320" cy="918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733920" y="3260160"/>
              <a:ext cx="1741320" cy="918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 flipV="1">
              <a:off x="5410080" y="3260160"/>
              <a:ext cx="1741680" cy="91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 flipV="1">
              <a:off x="7086600" y="3260160"/>
              <a:ext cx="1741320" cy="9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E9AC-1FA6-4893-B1C1-08113C64945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914400"/>
            <a:ext cx="6400800" cy="22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Burnt Chimney Elementary School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D-E-T-E-R-M”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PLAN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Recognize</a:t>
            </a:r>
            <a:br>
              <a:rPr sz="3800"/>
            </a:b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(What are the barriers we may face?)</a:t>
            </a:r>
            <a:endParaRPr b="0" lang="en-US" sz="3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71240" y="2752560"/>
            <a:ext cx="7010280" cy="27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Parents</a:t>
            </a:r>
            <a:endParaRPr b="0" lang="en-US" sz="2800" spc="-1" strike="noStrike">
              <a:solidFill>
                <a:srgbClr val="0000cc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Students not understanding their disability </a:t>
            </a:r>
            <a:endParaRPr b="0" lang="en-US" sz="2800" spc="-1" strike="noStrike">
              <a:solidFill>
                <a:srgbClr val="0000cc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Time</a:t>
            </a:r>
            <a:endParaRPr b="0" lang="en-US" sz="2800" spc="-1" strike="noStrike">
              <a:solidFill>
                <a:srgbClr val="0000cc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Language of IEP</a:t>
            </a:r>
            <a:endParaRPr b="0" lang="en-US" sz="2800" spc="-1" strike="noStrike">
              <a:solidFill>
                <a:srgbClr val="0000cc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Individual child’s disability</a:t>
            </a:r>
            <a:endParaRPr b="0" lang="en-US" sz="2800" spc="-1" strike="noStrike">
              <a:solidFill>
                <a:srgbClr val="0000cc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Importance-students and parents not seeing how important it is</a:t>
            </a:r>
            <a:endParaRPr b="0" lang="en-US" sz="28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28" name="Picture 4" descr="j0286034"/>
          <p:cNvPicPr/>
          <p:nvPr/>
        </p:nvPicPr>
        <p:blipFill>
          <a:blip r:embed="rId1"/>
          <a:stretch/>
        </p:blipFill>
        <p:spPr>
          <a:xfrm>
            <a:off x="457200" y="2133720"/>
            <a:ext cx="114300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ke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(What is our timeline for our plan?)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43000" y="297180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Oct. 13 - Met as committee for involvement in pilot program/set up goals</a:t>
            </a:r>
            <a:endParaRPr b="0" lang="en-US" sz="16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Oct. 16 - Complete teacher/parent/student surveys for all 5</a:t>
            </a:r>
            <a:r>
              <a:rPr b="0" lang="en-US" sz="1600" spc="-1" strike="noStrike" baseline="30000">
                <a:solidFill>
                  <a:srgbClr val="0000cc"/>
                </a:solidFill>
                <a:latin typeface="Comic Sans MS"/>
              </a:rPr>
              <a:t>th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graders and SWD at 3</a:t>
            </a:r>
            <a:r>
              <a:rPr b="0" lang="en-US" sz="1600" spc="-1" strike="noStrike" baseline="30000">
                <a:solidFill>
                  <a:srgbClr val="0000cc"/>
                </a:solidFill>
                <a:latin typeface="Comic Sans MS"/>
              </a:rPr>
              <a:t>rd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and 4</a:t>
            </a:r>
            <a:r>
              <a:rPr b="0" lang="en-US" sz="1600" spc="-1" strike="noStrike" baseline="30000">
                <a:solidFill>
                  <a:srgbClr val="0000cc"/>
                </a:solidFill>
                <a:latin typeface="Comic Sans MS"/>
              </a:rPr>
              <a:t>th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Oct. 23 - Complete parent survey</a:t>
            </a:r>
            <a:endParaRPr b="0" lang="en-US" sz="16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Nov. 28 - Parent to Parent meeting</a:t>
            </a:r>
            <a:endParaRPr b="0" lang="en-US" sz="16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Dec. 5 - Meet as a committee to review survey data, set up action plan, go over resources</a:t>
            </a:r>
            <a:endParaRPr b="0" lang="en-US" sz="16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Jan. 3 or 4 - Plan sessions and interview</a:t>
            </a:r>
            <a:endParaRPr b="0" lang="en-US" sz="16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End of Jan Beg. Of Feb. - Start working with students to increase self-determination and begin to get them ready for IEP process</a:t>
            </a:r>
            <a:endParaRPr b="0" lang="en-US" sz="16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Feb 13 - Committee meeting</a:t>
            </a:r>
            <a:endParaRPr b="0" lang="en-US" sz="16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March - Student/parent interviews</a:t>
            </a:r>
            <a:endParaRPr b="0" lang="en-US" sz="16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End of March - Begin IEP meeting</a:t>
            </a:r>
            <a:endParaRPr b="0" lang="en-US" sz="16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31" name="Picture 4" descr="MCj02409950000[1]"/>
          <p:cNvPicPr/>
          <p:nvPr/>
        </p:nvPicPr>
        <p:blipFill>
          <a:blip r:embed="rId1"/>
          <a:stretch/>
        </p:blipFill>
        <p:spPr>
          <a:xfrm>
            <a:off x="457200" y="2133720"/>
            <a:ext cx="11444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072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Determin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What is our goal?)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2874960"/>
            <a:ext cx="7696080" cy="26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In Spring of 2007, 50% of 5</a:t>
            </a:r>
            <a:r>
              <a:rPr b="0" lang="en-US" sz="2800" spc="-1" strike="noStrike" baseline="30000">
                <a:solidFill>
                  <a:srgbClr val="0000cc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 graders and 30% of 4</a:t>
            </a:r>
            <a:r>
              <a:rPr b="0" lang="en-US" sz="2800" spc="-1" strike="noStrike" baseline="30000">
                <a:solidFill>
                  <a:srgbClr val="0000cc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 graders at Burnt Chimney Elementary School will participate in their IEP meeting as measured by the IEP Participation Continuum Checklist</a:t>
            </a:r>
            <a:endParaRPr b="0" lang="en-US" sz="28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06" name="Picture 6" descr="MCj03983070000[1]"/>
          <p:cNvPicPr/>
          <p:nvPr/>
        </p:nvPicPr>
        <p:blipFill>
          <a:blip r:embed="rId1"/>
          <a:stretch/>
        </p:blipFill>
        <p:spPr>
          <a:xfrm>
            <a:off x="3809880" y="1371600"/>
            <a:ext cx="1425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072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Determin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What is our goal?)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2874960"/>
            <a:ext cx="7696080" cy="26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In Spring of 2007, 1  5</a:t>
            </a:r>
            <a:r>
              <a:rPr b="0" lang="en-US" sz="2800" spc="-1" strike="noStrike" baseline="30000">
                <a:solidFill>
                  <a:srgbClr val="0000cc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 grader and 1 4</a:t>
            </a:r>
            <a:r>
              <a:rPr b="0" lang="en-US" sz="2800" spc="-1" strike="noStrike" baseline="30000">
                <a:solidFill>
                  <a:srgbClr val="0000cc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 grader at Burnt Chimney Elementary School will create a power point from a template for their IEP meeting as measured by the use of the power points at their IEP meetings.</a:t>
            </a:r>
            <a:endParaRPr b="0" lang="en-US" sz="28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09" name="Picture 4" descr="MCj03983070000[1]"/>
          <p:cNvPicPr/>
          <p:nvPr/>
        </p:nvPicPr>
        <p:blipFill>
          <a:blip r:embed="rId1"/>
          <a:stretch/>
        </p:blipFill>
        <p:spPr>
          <a:xfrm>
            <a:off x="3809880" y="1371600"/>
            <a:ext cx="1425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072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Determin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What is our goal?)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874960"/>
            <a:ext cx="7696080" cy="26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In Spring of 2007, all 3</a:t>
            </a:r>
            <a:r>
              <a:rPr b="0" lang="en-US" sz="2800" spc="-1" strike="noStrike" baseline="30000">
                <a:solidFill>
                  <a:srgbClr val="0000cc"/>
                </a:solidFill>
                <a:latin typeface="Comic Sans MS"/>
              </a:rPr>
              <a:t>rd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, 4</a:t>
            </a:r>
            <a:r>
              <a:rPr b="0" lang="en-US" sz="2800" spc="-1" strike="noStrike" baseline="30000">
                <a:solidFill>
                  <a:srgbClr val="0000cc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, and 5</a:t>
            </a:r>
            <a:r>
              <a:rPr b="0" lang="en-US" sz="2800" spc="-1" strike="noStrike" baseline="30000">
                <a:solidFill>
                  <a:srgbClr val="0000cc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 grade students with special needs will create a notebook of personal information to be used to develop their IEPs as measured by the finished product.</a:t>
            </a:r>
            <a:endParaRPr b="0" lang="en-US" sz="28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12" name="Picture 4" descr="MCj03983070000[1]"/>
          <p:cNvPicPr/>
          <p:nvPr/>
        </p:nvPicPr>
        <p:blipFill>
          <a:blip r:embed="rId1"/>
          <a:stretch/>
        </p:blipFill>
        <p:spPr>
          <a:xfrm>
            <a:off x="3809880" y="1371600"/>
            <a:ext cx="1425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072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Determin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What is our goal?)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874960"/>
            <a:ext cx="7696080" cy="26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In Spring of 2007, a team of special education teachers will create brochures and posters to be used in presentations with both students parents and teachers as measured by finished products.</a:t>
            </a:r>
            <a:endParaRPr b="0" lang="en-US" sz="28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15" name="Picture 4" descr="MCj03983070000[1]"/>
          <p:cNvPicPr/>
          <p:nvPr/>
        </p:nvPicPr>
        <p:blipFill>
          <a:blip r:embed="rId1"/>
          <a:stretch/>
        </p:blipFill>
        <p:spPr>
          <a:xfrm>
            <a:off x="3809880" y="1371600"/>
            <a:ext cx="1425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valuat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What do we already know?)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680" y="205740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cc"/>
                </a:solidFill>
                <a:latin typeface="Comic Sans MS"/>
              </a:rPr>
              <a:t>Students…</a:t>
            </a:r>
            <a:endParaRPr b="0" lang="en-US" sz="31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Don’t know what an IEP is</a:t>
            </a:r>
            <a:endParaRPr b="0" lang="en-US" sz="24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Don’t know their likes and interests</a:t>
            </a:r>
            <a:endParaRPr b="0" lang="en-US" sz="24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Not familiar with their own disability</a:t>
            </a:r>
            <a:endParaRPr b="0" lang="en-US" sz="24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Poor decision makers</a:t>
            </a:r>
            <a:endParaRPr b="0" lang="en-US" sz="24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Get along with their peers</a:t>
            </a:r>
            <a:endParaRPr b="0" lang="en-US" sz="24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Knows hard work will help them get ahead</a:t>
            </a:r>
            <a:endParaRPr b="0" lang="en-US" sz="24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Believe their teachers listen to them</a:t>
            </a:r>
            <a:endParaRPr b="0" lang="en-US" sz="2400" spc="-1" strike="noStrike">
              <a:solidFill>
                <a:srgbClr val="0000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Aware of their needs</a:t>
            </a:r>
            <a:endParaRPr b="0" lang="en-US" sz="24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18" name="Picture 4" descr="MCj00787170000[1]"/>
          <p:cNvPicPr/>
          <p:nvPr/>
        </p:nvPicPr>
        <p:blipFill>
          <a:blip r:embed="rId1"/>
          <a:stretch/>
        </p:blipFill>
        <p:spPr>
          <a:xfrm>
            <a:off x="6934320" y="1828800"/>
            <a:ext cx="726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ink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(How do we measure our goal?)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3244320"/>
            <a:ext cx="7696080" cy="10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Use the IEP Participation Continuum Checklist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  <a:p>
            <a:pPr marL="209160" indent="-2091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Use of completed power points, notebooks, brochures and posters.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121" name="Picture 4" descr="MCj00788260000[1]"/>
          <p:cNvPicPr/>
          <p:nvPr/>
        </p:nvPicPr>
        <p:blipFill>
          <a:blip r:embed="rId1"/>
          <a:stretch/>
        </p:blipFill>
        <p:spPr>
          <a:xfrm>
            <a:off x="3276720" y="1600200"/>
            <a:ext cx="25747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stablish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What is our action plan?)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182600" y="2017800"/>
          <a:ext cx="7772400" cy="50576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6340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is responsib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e starting 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urvey all 5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rade students parents, and teache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urvey SWD at 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rade and 4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rade and their parents and teache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ulty at Burnt Chimney Elementar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lve par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-to-Parent me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/TA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Faculty at Burnt Chimne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e what information to share with student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 Ed. Staff me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 Ed Sta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student meetings and intervie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 Ed. Staff me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 Ed. Sta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 info. with students and model behavi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 student meeting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. Ed. Sta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her info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iew stud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. ed. staff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tud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IEP particip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ite to IEP me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. Ed. Sta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stablish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What is our action plan?)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82600" y="2017800"/>
          <a:ext cx="7772400" cy="621828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47808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is responsib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power point templ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t to determine what needs to be included in templ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D teache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students creating power 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t after school to create the power 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with technology teacher to aide in completing the power 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PED teache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echnology teach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44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notebooks for all 3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4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5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raders with special nee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graduate students to put notebooks togeth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collecting data for noteboo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g data into notebook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on “My Move Up” section with middle school sta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/TAC sta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D teache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D teache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nt Chimney and Ben Franklin sta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64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6:33:37Z</dcterms:created>
  <dc:creator>Radford University</dc:creator>
  <dc:description/>
  <dc:language>en-US</dc:language>
  <cp:lastModifiedBy>owner</cp:lastModifiedBy>
  <dcterms:modified xsi:type="dcterms:W3CDTF">2013-01-16T18:19:04Z</dcterms:modified>
  <cp:revision>12</cp:revision>
  <dc:subject/>
  <dc:title>Determine (What is our goal?)</dc:title>
</cp:coreProperties>
</file>